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41D4-BB7D-4EA7-9A86-74FD9CF01B6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B5AF-1289-4D1B-9770-6D6110D81C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7E3D-2B04-4255-80F8-F6D104613C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A5A1-57FF-456F-B12C-1FF5A7F1A6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DF91-37B0-4788-9F65-C2A645548B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F5A1-4918-4B6E-BF5D-22CBF4271A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3BB-9498-42DB-973E-11023CEB54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657-5270-4B0E-ABDF-9640317569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26B7-1DD7-4B47-9F23-B6B6F0FA67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D277-C554-449B-B5FF-F0FDEAB106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72C7-7C3B-44F6-9B5B-AB669121B7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CE1D-3BAC-4C96-9705-55480D9A60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98A-154E-4CFE-9AFB-6A20A8A340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949-77F3-4EDE-BF28-B31758D9C2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22DC-5064-4C5B-A549-B7FF42254B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AECF-24C5-406D-8E4C-884CA7884E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D0CE-C7D6-4598-8BDB-C07FE4DF3C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E96-8CC0-4E83-A82D-624FDCEE59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FD99-282A-48D4-885D-E5666EC086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AA06-A04D-4784-A84E-F7DCD6B050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81CC-5EDD-465D-9572-0B010A98AC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B94F-6941-4FEA-997E-2CA335EE23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F15D-7B37-4C47-BCEC-6C43190B37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9AF0-363C-475B-A785-B5ED5B0A8E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1CAB-1859-4AB7-BA01-32755F9672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B3A8-3855-42B4-BA2B-73F36EA28F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6568-7F51-42B3-9CC2-6B9D3DA99C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7F6A-DE88-43A4-8FD3-EE37EABAB3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2CFA-22DD-479F-B967-2D34750D4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FAFA-D925-4E6A-B971-126C1A298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7966-0D84-499A-B71A-F307D30B32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6FF4-9BE9-494E-A33F-D8DD2B4DB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97D8-4538-4C4A-A581-7DC769FAC3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C601-490E-486A-BE62-5D278437CD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E605-3C5A-4C6A-BC49-DC775B725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68BE-FCE2-48F9-9EDC-43096EE3EF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35F-89A4-4BE0-A6FD-06855E8CBF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B228-8CBF-4C36-BF2F-40F405935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99B3-4C0A-4B9C-802C-BADBA37E8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C80B-B6F4-49B4-BED1-5515C6DEA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7B65-B553-4F95-803B-24F8B3C0C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072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6764-C96A-45F3-A66A-80A1BE20E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D4C3-5BB4-4921-A211-CA70EE845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2C59-74F5-47E1-A453-41AF8D3AF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CCF0-CC07-4D13-85DE-10E27BE99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072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B8DB-8230-4F3E-91CE-291536173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3F57-E4A8-44B2-8964-4FBC82930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4EF7-4147-459A-9F2B-CA5753E19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0FDE-0781-44DD-AC24-05299B243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5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gradFill rotWithShape="0">
            <a:gsLst>
              <a:gs pos="0">
                <a:srgbClr val="4f8927"/>
              </a:gs>
              <a:gs pos="50000">
                <a:srgbClr val="adc80a"/>
              </a:gs>
              <a:gs pos="100000">
                <a:srgbClr val="4f89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4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4f8927"/>
              </a:gs>
              <a:gs pos="50000">
                <a:srgbClr val="adc80a"/>
              </a:gs>
              <a:gs pos="100000">
                <a:srgbClr val="4f89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072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grpSp>
        <p:nvGrpSpPr>
          <p:cNvPr id="4" name="Group 47"/>
          <p:cNvGrpSpPr/>
          <p:nvPr/>
        </p:nvGrpSpPr>
        <p:grpSpPr>
          <a:xfrm>
            <a:off x="250920" y="189000"/>
            <a:ext cx="1247760" cy="318960"/>
            <a:chOff x="250920" y="189000"/>
            <a:chExt cx="1247760" cy="318960"/>
          </a:xfrm>
        </p:grpSpPr>
        <p:sp>
          <p:nvSpPr>
            <p:cNvPr id="5" name="AutoShape 48"/>
            <p:cNvSpPr/>
            <p:nvPr/>
          </p:nvSpPr>
          <p:spPr>
            <a:xfrm>
              <a:off x="250920" y="189000"/>
              <a:ext cx="1247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49"/>
            <p:cNvSpPr/>
            <p:nvPr/>
          </p:nvSpPr>
          <p:spPr>
            <a:xfrm>
              <a:off x="253440" y="191880"/>
              <a:ext cx="1241280" cy="31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" name="Group 50"/>
          <p:cNvGrpSpPr/>
          <p:nvPr/>
        </p:nvGrpSpPr>
        <p:grpSpPr>
          <a:xfrm>
            <a:off x="1546200" y="333360"/>
            <a:ext cx="1871640" cy="123840"/>
            <a:chOff x="1546200" y="333360"/>
            <a:chExt cx="1871640" cy="123840"/>
          </a:xfrm>
        </p:grpSpPr>
        <p:sp>
          <p:nvSpPr>
            <p:cNvPr id="8" name="AutoShape 51"/>
            <p:cNvSpPr/>
            <p:nvPr/>
          </p:nvSpPr>
          <p:spPr>
            <a:xfrm>
              <a:off x="1546200" y="333360"/>
              <a:ext cx="18716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52"/>
            <p:cNvSpPr/>
            <p:nvPr/>
          </p:nvSpPr>
          <p:spPr>
            <a:xfrm>
              <a:off x="1551240" y="346320"/>
              <a:ext cx="6516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53"/>
            <p:cNvSpPr/>
            <p:nvPr/>
          </p:nvSpPr>
          <p:spPr>
            <a:xfrm>
              <a:off x="1618920" y="367920"/>
              <a:ext cx="637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54"/>
            <p:cNvSpPr/>
            <p:nvPr/>
          </p:nvSpPr>
          <p:spPr>
            <a:xfrm>
              <a:off x="1692360" y="338760"/>
              <a:ext cx="51840" cy="9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55"/>
            <p:cNvSpPr/>
            <p:nvPr/>
          </p:nvSpPr>
          <p:spPr>
            <a:xfrm>
              <a:off x="1738800" y="350280"/>
              <a:ext cx="41040" cy="7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56"/>
            <p:cNvSpPr/>
            <p:nvPr/>
          </p:nvSpPr>
          <p:spPr>
            <a:xfrm>
              <a:off x="1785600" y="367920"/>
              <a:ext cx="10080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57"/>
            <p:cNvSpPr/>
            <p:nvPr/>
          </p:nvSpPr>
          <p:spPr>
            <a:xfrm>
              <a:off x="1884240" y="367920"/>
              <a:ext cx="5580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58"/>
            <p:cNvSpPr/>
            <p:nvPr/>
          </p:nvSpPr>
          <p:spPr>
            <a:xfrm>
              <a:off x="1947960" y="367920"/>
              <a:ext cx="4896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59"/>
            <p:cNvSpPr/>
            <p:nvPr/>
          </p:nvSpPr>
          <p:spPr>
            <a:xfrm>
              <a:off x="1994760" y="367920"/>
              <a:ext cx="5688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60"/>
            <p:cNvSpPr/>
            <p:nvPr/>
          </p:nvSpPr>
          <p:spPr>
            <a:xfrm>
              <a:off x="2091960" y="346320"/>
              <a:ext cx="662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Freeform 61"/>
            <p:cNvSpPr/>
            <p:nvPr/>
          </p:nvSpPr>
          <p:spPr>
            <a:xfrm>
              <a:off x="2155680" y="367920"/>
              <a:ext cx="637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Freeform 62"/>
            <p:cNvSpPr/>
            <p:nvPr/>
          </p:nvSpPr>
          <p:spPr>
            <a:xfrm>
              <a:off x="2227680" y="367920"/>
              <a:ext cx="67320" cy="8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Freeform 63"/>
            <p:cNvSpPr/>
            <p:nvPr/>
          </p:nvSpPr>
          <p:spPr>
            <a:xfrm>
              <a:off x="2297880" y="342720"/>
              <a:ext cx="34560" cy="8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Freeform 64"/>
            <p:cNvSpPr/>
            <p:nvPr/>
          </p:nvSpPr>
          <p:spPr>
            <a:xfrm>
              <a:off x="2332800" y="367920"/>
              <a:ext cx="637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65"/>
            <p:cNvSpPr/>
            <p:nvPr/>
          </p:nvSpPr>
          <p:spPr>
            <a:xfrm>
              <a:off x="2403360" y="367920"/>
              <a:ext cx="583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Freeform 66"/>
            <p:cNvSpPr/>
            <p:nvPr/>
          </p:nvSpPr>
          <p:spPr>
            <a:xfrm>
              <a:off x="2469960" y="367920"/>
              <a:ext cx="583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Freeform 67"/>
            <p:cNvSpPr/>
            <p:nvPr/>
          </p:nvSpPr>
          <p:spPr>
            <a:xfrm>
              <a:off x="2533680" y="367920"/>
              <a:ext cx="4788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Freeform 68"/>
            <p:cNvSpPr/>
            <p:nvPr/>
          </p:nvSpPr>
          <p:spPr>
            <a:xfrm>
              <a:off x="2581920" y="367920"/>
              <a:ext cx="5688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Freeform 69"/>
            <p:cNvSpPr/>
            <p:nvPr/>
          </p:nvSpPr>
          <p:spPr>
            <a:xfrm>
              <a:off x="2645640" y="339840"/>
              <a:ext cx="7164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Freeform 70"/>
            <p:cNvSpPr/>
            <p:nvPr/>
          </p:nvSpPr>
          <p:spPr>
            <a:xfrm>
              <a:off x="2750760" y="338760"/>
              <a:ext cx="48960" cy="9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Freeform 71"/>
            <p:cNvSpPr/>
            <p:nvPr/>
          </p:nvSpPr>
          <p:spPr>
            <a:xfrm>
              <a:off x="2795760" y="367920"/>
              <a:ext cx="6516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Freeform 72"/>
            <p:cNvSpPr/>
            <p:nvPr/>
          </p:nvSpPr>
          <p:spPr>
            <a:xfrm>
              <a:off x="2863800" y="367920"/>
              <a:ext cx="493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73"/>
            <p:cNvSpPr/>
            <p:nvPr/>
          </p:nvSpPr>
          <p:spPr>
            <a:xfrm>
              <a:off x="2947680" y="346320"/>
              <a:ext cx="7596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74"/>
            <p:cNvSpPr/>
            <p:nvPr/>
          </p:nvSpPr>
          <p:spPr>
            <a:xfrm>
              <a:off x="3025080" y="367920"/>
              <a:ext cx="4896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75"/>
            <p:cNvSpPr/>
            <p:nvPr/>
          </p:nvSpPr>
          <p:spPr>
            <a:xfrm>
              <a:off x="3072960" y="367920"/>
              <a:ext cx="6228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76"/>
            <p:cNvSpPr/>
            <p:nvPr/>
          </p:nvSpPr>
          <p:spPr>
            <a:xfrm>
              <a:off x="3148560" y="367920"/>
              <a:ext cx="997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77"/>
            <p:cNvSpPr/>
            <p:nvPr/>
          </p:nvSpPr>
          <p:spPr>
            <a:xfrm>
              <a:off x="3249720" y="350280"/>
              <a:ext cx="42480" cy="7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78"/>
            <p:cNvSpPr/>
            <p:nvPr/>
          </p:nvSpPr>
          <p:spPr>
            <a:xfrm>
              <a:off x="3288600" y="339840"/>
              <a:ext cx="651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79"/>
            <p:cNvSpPr/>
            <p:nvPr/>
          </p:nvSpPr>
          <p:spPr>
            <a:xfrm>
              <a:off x="3363120" y="346320"/>
              <a:ext cx="489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" name="Text Box 80"/>
          <p:cNvSpPr/>
          <p:nvPr/>
        </p:nvSpPr>
        <p:spPr>
          <a:xfrm>
            <a:off x="7640280" y="130320"/>
            <a:ext cx="12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penfind </a:t>
            </a:r>
            <a:r>
              <a:rPr b="0" lang="zh-TW" sz="1200" spc="-1" strike="noStrike">
                <a:solidFill>
                  <a:srgbClr val="ffffff"/>
                </a:solidFill>
                <a:latin typeface="Arial Black"/>
              </a:rPr>
              <a:t>天使帝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17892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34FE-66EF-46AE-A63C-041A362AF161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Text Box 83"/>
          <p:cNvSpPr/>
          <p:nvPr/>
        </p:nvSpPr>
        <p:spPr>
          <a:xfrm>
            <a:off x="6208560" y="6524640"/>
            <a:ext cx="294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Copyright 2008 Openfind Information Technology, Inc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7" descr="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072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"/>
          <p:cNvSpPr/>
          <p:nvPr/>
        </p:nvSpPr>
        <p:spPr>
          <a:xfrm>
            <a:off x="0" y="2708280"/>
            <a:ext cx="9144000" cy="289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5867280" y="6381720"/>
            <a:ext cx="3170160" cy="322200"/>
            <a:chOff x="5867280" y="6381720"/>
            <a:chExt cx="3170160" cy="322200"/>
          </a:xfrm>
        </p:grpSpPr>
        <p:grpSp>
          <p:nvGrpSpPr>
            <p:cNvPr id="126" name="Group 18"/>
            <p:cNvGrpSpPr/>
            <p:nvPr/>
          </p:nvGrpSpPr>
          <p:grpSpPr>
            <a:xfrm>
              <a:off x="5867280" y="6381720"/>
              <a:ext cx="1260720" cy="322200"/>
              <a:chOff x="5867280" y="6381720"/>
              <a:chExt cx="1260720" cy="322200"/>
            </a:xfrm>
          </p:grpSpPr>
          <p:sp>
            <p:nvSpPr>
              <p:cNvPr id="127" name="AutoShape 19"/>
              <p:cNvSpPr/>
              <p:nvPr/>
            </p:nvSpPr>
            <p:spPr>
              <a:xfrm>
                <a:off x="5867280" y="6381720"/>
                <a:ext cx="1260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Freeform 20"/>
              <p:cNvSpPr/>
              <p:nvPr/>
            </p:nvSpPr>
            <p:spPr>
              <a:xfrm>
                <a:off x="5870880" y="6385320"/>
                <a:ext cx="1253160" cy="3146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9" name="Group 21"/>
            <p:cNvGrpSpPr/>
            <p:nvPr/>
          </p:nvGrpSpPr>
          <p:grpSpPr>
            <a:xfrm>
              <a:off x="7148160" y="6537600"/>
              <a:ext cx="1889280" cy="124560"/>
              <a:chOff x="7148160" y="6537600"/>
              <a:chExt cx="1889280" cy="124560"/>
            </a:xfrm>
          </p:grpSpPr>
          <p:sp>
            <p:nvSpPr>
              <p:cNvPr id="130" name="AutoShape 22"/>
              <p:cNvSpPr/>
              <p:nvPr/>
            </p:nvSpPr>
            <p:spPr>
              <a:xfrm>
                <a:off x="7148160" y="6537600"/>
                <a:ext cx="18892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23"/>
              <p:cNvSpPr/>
              <p:nvPr/>
            </p:nvSpPr>
            <p:spPr>
              <a:xfrm>
                <a:off x="7153200" y="6549480"/>
                <a:ext cx="64080" cy="828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24"/>
              <p:cNvSpPr/>
              <p:nvPr/>
            </p:nvSpPr>
            <p:spPr>
              <a:xfrm>
                <a:off x="7222320" y="6571800"/>
                <a:ext cx="6408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25"/>
              <p:cNvSpPr/>
              <p:nvPr/>
            </p:nvSpPr>
            <p:spPr>
              <a:xfrm>
                <a:off x="7296480" y="6542280"/>
                <a:ext cx="51840" cy="900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26"/>
              <p:cNvSpPr/>
              <p:nvPr/>
            </p:nvSpPr>
            <p:spPr>
              <a:xfrm>
                <a:off x="7343280" y="6554520"/>
                <a:ext cx="41760" cy="7776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27"/>
              <p:cNvSpPr/>
              <p:nvPr/>
            </p:nvSpPr>
            <p:spPr>
              <a:xfrm>
                <a:off x="7390080" y="6571800"/>
                <a:ext cx="10116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Freeform 28"/>
              <p:cNvSpPr/>
              <p:nvPr/>
            </p:nvSpPr>
            <p:spPr>
              <a:xfrm>
                <a:off x="7489080" y="6571800"/>
                <a:ext cx="5688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Freeform 29"/>
              <p:cNvSpPr/>
              <p:nvPr/>
            </p:nvSpPr>
            <p:spPr>
              <a:xfrm>
                <a:off x="7553520" y="6571800"/>
                <a:ext cx="4932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Freeform 30"/>
              <p:cNvSpPr/>
              <p:nvPr/>
            </p:nvSpPr>
            <p:spPr>
              <a:xfrm>
                <a:off x="7600680" y="6571800"/>
                <a:ext cx="5940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Freeform 31"/>
              <p:cNvSpPr/>
              <p:nvPr/>
            </p:nvSpPr>
            <p:spPr>
              <a:xfrm>
                <a:off x="7699680" y="6549480"/>
                <a:ext cx="66600" cy="828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Freeform 32"/>
              <p:cNvSpPr/>
              <p:nvPr/>
            </p:nvSpPr>
            <p:spPr>
              <a:xfrm>
                <a:off x="7763760" y="6571800"/>
                <a:ext cx="6408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Freeform 33"/>
              <p:cNvSpPr/>
              <p:nvPr/>
            </p:nvSpPr>
            <p:spPr>
              <a:xfrm>
                <a:off x="7835400" y="6571800"/>
                <a:ext cx="69120" cy="8496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Freeform 34"/>
              <p:cNvSpPr/>
              <p:nvPr/>
            </p:nvSpPr>
            <p:spPr>
              <a:xfrm>
                <a:off x="7907400" y="6546960"/>
                <a:ext cx="34200" cy="8532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Freeform 35"/>
              <p:cNvSpPr/>
              <p:nvPr/>
            </p:nvSpPr>
            <p:spPr>
              <a:xfrm>
                <a:off x="7941960" y="6571800"/>
                <a:ext cx="6408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36"/>
              <p:cNvSpPr/>
              <p:nvPr/>
            </p:nvSpPr>
            <p:spPr>
              <a:xfrm>
                <a:off x="8013600" y="6571800"/>
                <a:ext cx="5904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37"/>
              <p:cNvSpPr/>
              <p:nvPr/>
            </p:nvSpPr>
            <p:spPr>
              <a:xfrm>
                <a:off x="8080200" y="6571800"/>
                <a:ext cx="5940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Freeform 38"/>
              <p:cNvSpPr/>
              <p:nvPr/>
            </p:nvSpPr>
            <p:spPr>
              <a:xfrm>
                <a:off x="8144640" y="6571800"/>
                <a:ext cx="4932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39"/>
              <p:cNvSpPr/>
              <p:nvPr/>
            </p:nvSpPr>
            <p:spPr>
              <a:xfrm>
                <a:off x="8191800" y="6571800"/>
                <a:ext cx="5904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40"/>
              <p:cNvSpPr/>
              <p:nvPr/>
            </p:nvSpPr>
            <p:spPr>
              <a:xfrm>
                <a:off x="8258400" y="6544800"/>
                <a:ext cx="71640" cy="8748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41"/>
              <p:cNvSpPr/>
              <p:nvPr/>
            </p:nvSpPr>
            <p:spPr>
              <a:xfrm>
                <a:off x="8364600" y="6542280"/>
                <a:ext cx="49320" cy="900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42"/>
              <p:cNvSpPr/>
              <p:nvPr/>
            </p:nvSpPr>
            <p:spPr>
              <a:xfrm>
                <a:off x="8409240" y="6571800"/>
                <a:ext cx="6156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43"/>
              <p:cNvSpPr/>
              <p:nvPr/>
            </p:nvSpPr>
            <p:spPr>
              <a:xfrm>
                <a:off x="8478360" y="6571800"/>
                <a:ext cx="4932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44"/>
              <p:cNvSpPr/>
              <p:nvPr/>
            </p:nvSpPr>
            <p:spPr>
              <a:xfrm>
                <a:off x="8562600" y="6549480"/>
                <a:ext cx="76320" cy="828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45"/>
              <p:cNvSpPr/>
              <p:nvPr/>
            </p:nvSpPr>
            <p:spPr>
              <a:xfrm>
                <a:off x="8641800" y="6571800"/>
                <a:ext cx="4932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46"/>
              <p:cNvSpPr/>
              <p:nvPr/>
            </p:nvSpPr>
            <p:spPr>
              <a:xfrm>
                <a:off x="8688600" y="6571800"/>
                <a:ext cx="6444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47"/>
              <p:cNvSpPr/>
              <p:nvPr/>
            </p:nvSpPr>
            <p:spPr>
              <a:xfrm>
                <a:off x="8765280" y="6571800"/>
                <a:ext cx="10116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48"/>
              <p:cNvSpPr/>
              <p:nvPr/>
            </p:nvSpPr>
            <p:spPr>
              <a:xfrm>
                <a:off x="8866440" y="6554520"/>
                <a:ext cx="44280" cy="7776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49"/>
              <p:cNvSpPr/>
              <p:nvPr/>
            </p:nvSpPr>
            <p:spPr>
              <a:xfrm>
                <a:off x="8908560" y="6544800"/>
                <a:ext cx="64440" cy="8748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50"/>
              <p:cNvSpPr/>
              <p:nvPr/>
            </p:nvSpPr>
            <p:spPr>
              <a:xfrm>
                <a:off x="8983080" y="6549480"/>
                <a:ext cx="49320" cy="2196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9" name="Text Box 58"/>
          <p:cNvSpPr/>
          <p:nvPr/>
        </p:nvSpPr>
        <p:spPr>
          <a:xfrm>
            <a:off x="1258920" y="1700280"/>
            <a:ext cx="655308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9 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程式設計比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penfind 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天使帝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處罰條件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86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42F0-9831-4123-99AB-56E248CEAF18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85840" y="2205000"/>
            <a:ext cx="86439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有任何錯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buildArmy, move, moveAndHeal, moveAndAttack)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，直接判定該戰役得零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超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秒沒有移動，該戰役得零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找到系統錯誤，中元普渡時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ntom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對你鞠躬十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BAT(2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89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ADC4-45E3-4CD5-9563-203CE7DDDA47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68360" y="2205000"/>
            <a:ext cx="4889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近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飛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被近身攻擊可反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GIANTBAT(3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93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4021-D8FA-42AC-9566-4381841B6B65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360" y="2205000"/>
            <a:ext cx="5032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近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飛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被近身攻擊可反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WARRIOR1(4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97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A5F-FE7D-4E7C-B1FC-631C1241FE78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68360" y="2205000"/>
            <a:ext cx="5032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近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步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被近身攻擊可反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ROGUE(5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01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F560-8AAA-4219-87F2-176B3B69DB51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8360" y="2205000"/>
            <a:ext cx="5032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近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步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被近身攻擊可反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MAGICIAN(6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05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75B0-908E-4A54-8D2A-A1120048BAF2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68360" y="2000160"/>
            <a:ext cx="503244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9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遠程法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施法距離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步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攻擊無視防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PRIEST(7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09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34E6-C37B-4CCB-AC5E-A344C0340395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68360" y="2000160"/>
            <a:ext cx="503244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治療能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施法距離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步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GOLEM(8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13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7486-D1D4-49B7-BB6E-D4CBE3CC43DA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68360" y="2000160"/>
            <a:ext cx="503244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7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近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步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被近身攻擊可反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WARRIOR2(9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17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8622-3E4C-4ACD-AF2D-346413F4D46A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68360" y="2205000"/>
            <a:ext cx="5032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近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步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被近身攻擊可反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RICHARD(10)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CPU </a:t>
            </a:r>
            <a:r>
              <a:rPr b="1" lang="zh-TW" sz="4000" spc="-1" strike="noStrike">
                <a:solidFill>
                  <a:srgbClr val="ff0000"/>
                </a:solidFill>
                <a:latin typeface="Verdana"/>
              </a:rPr>
              <a:t>限定使用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21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D035-A60F-4E99-AD3D-951ABDA4A3ED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68360" y="2205000"/>
            <a:ext cx="5032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7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近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步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被近身攻擊可反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072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Preview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61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99F0-2241-4B92-8963-A816CC0EA3F4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圖片 5" descr="demo.jpg"/>
          <p:cNvPicPr/>
          <p:nvPr/>
        </p:nvPicPr>
        <p:blipFill>
          <a:blip r:embed="rId1"/>
          <a:stretch/>
        </p:blipFill>
        <p:spPr>
          <a:xfrm>
            <a:off x="1643040" y="1857240"/>
            <a:ext cx="61912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ANDRIC(11)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CPU </a:t>
            </a:r>
            <a:r>
              <a:rPr b="1" lang="zh-TW" sz="4000" spc="-1" strike="noStrike">
                <a:solidFill>
                  <a:srgbClr val="ff0000"/>
                </a:solidFill>
                <a:latin typeface="Verdana"/>
              </a:rPr>
              <a:t>限定使用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25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2EB1-99ED-4ADE-A78F-0769D81BB481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68360" y="2205000"/>
            <a:ext cx="5032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近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步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被近身攻擊可反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PHANTOM(12)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CPU </a:t>
            </a:r>
            <a:r>
              <a:rPr b="1" lang="zh-TW" sz="4000" spc="-1" strike="noStrike">
                <a:solidFill>
                  <a:srgbClr val="ff0000"/>
                </a:solidFill>
                <a:latin typeface="Verdana"/>
              </a:rPr>
              <a:t>限定使用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29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4024-767F-4C06-92A1-A50AC018F987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468360" y="2205000"/>
            <a:ext cx="5032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近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飛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被近身攻擊可反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IVAN(12)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CPU </a:t>
            </a:r>
            <a:r>
              <a:rPr b="1" lang="zh-TW" sz="4000" spc="-1" strike="noStrike">
                <a:solidFill>
                  <a:srgbClr val="ff0000"/>
                </a:solidFill>
                <a:latin typeface="Verdana"/>
              </a:rPr>
              <a:t>限定使用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33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E19E-77E0-4094-AF64-27F43BD8DD67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468360" y="2205000"/>
            <a:ext cx="5032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生命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防禦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力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攻擊方式：遠程法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施法距離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移動方式：步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特殊能力：攻擊無視防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價格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圖片 4" descr="Bat.bmp"/>
          <p:cNvPicPr/>
          <p:nvPr/>
        </p:nvPicPr>
        <p:blipFill>
          <a:blip r:embed="rId1"/>
          <a:stretch/>
        </p:blipFill>
        <p:spPr>
          <a:xfrm>
            <a:off x="6072120" y="257184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"/>
          <p:cNvSpPr/>
          <p:nvPr/>
        </p:nvSpPr>
        <p:spPr>
          <a:xfrm>
            <a:off x="0" y="2708280"/>
            <a:ext cx="9144000" cy="289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17"/>
          <p:cNvGrpSpPr/>
          <p:nvPr/>
        </p:nvGrpSpPr>
        <p:grpSpPr>
          <a:xfrm>
            <a:off x="5867280" y="6381720"/>
            <a:ext cx="3170160" cy="322200"/>
            <a:chOff x="5867280" y="6381720"/>
            <a:chExt cx="3170160" cy="322200"/>
          </a:xfrm>
        </p:grpSpPr>
        <p:grpSp>
          <p:nvGrpSpPr>
            <p:cNvPr id="240" name="Group 18"/>
            <p:cNvGrpSpPr/>
            <p:nvPr/>
          </p:nvGrpSpPr>
          <p:grpSpPr>
            <a:xfrm>
              <a:off x="5867280" y="6381720"/>
              <a:ext cx="1260720" cy="322200"/>
              <a:chOff x="5867280" y="6381720"/>
              <a:chExt cx="1260720" cy="322200"/>
            </a:xfrm>
          </p:grpSpPr>
          <p:sp>
            <p:nvSpPr>
              <p:cNvPr id="241" name="AutoShape 19"/>
              <p:cNvSpPr/>
              <p:nvPr/>
            </p:nvSpPr>
            <p:spPr>
              <a:xfrm>
                <a:off x="5867280" y="6381720"/>
                <a:ext cx="1260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20"/>
              <p:cNvSpPr/>
              <p:nvPr/>
            </p:nvSpPr>
            <p:spPr>
              <a:xfrm>
                <a:off x="5870880" y="6385320"/>
                <a:ext cx="1253160" cy="3146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21"/>
            <p:cNvGrpSpPr/>
            <p:nvPr/>
          </p:nvGrpSpPr>
          <p:grpSpPr>
            <a:xfrm>
              <a:off x="7148160" y="6537600"/>
              <a:ext cx="1889280" cy="124560"/>
              <a:chOff x="7148160" y="6537600"/>
              <a:chExt cx="1889280" cy="124560"/>
            </a:xfrm>
          </p:grpSpPr>
          <p:sp>
            <p:nvSpPr>
              <p:cNvPr id="244" name="AutoShape 22"/>
              <p:cNvSpPr/>
              <p:nvPr/>
            </p:nvSpPr>
            <p:spPr>
              <a:xfrm>
                <a:off x="7148160" y="6537600"/>
                <a:ext cx="18892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23"/>
              <p:cNvSpPr/>
              <p:nvPr/>
            </p:nvSpPr>
            <p:spPr>
              <a:xfrm>
                <a:off x="7153200" y="6549480"/>
                <a:ext cx="64080" cy="828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24"/>
              <p:cNvSpPr/>
              <p:nvPr/>
            </p:nvSpPr>
            <p:spPr>
              <a:xfrm>
                <a:off x="7222320" y="6571800"/>
                <a:ext cx="6408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Freeform 25"/>
              <p:cNvSpPr/>
              <p:nvPr/>
            </p:nvSpPr>
            <p:spPr>
              <a:xfrm>
                <a:off x="7296480" y="6542280"/>
                <a:ext cx="51840" cy="900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Freeform 26"/>
              <p:cNvSpPr/>
              <p:nvPr/>
            </p:nvSpPr>
            <p:spPr>
              <a:xfrm>
                <a:off x="7343280" y="6554520"/>
                <a:ext cx="41760" cy="7776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Freeform 27"/>
              <p:cNvSpPr/>
              <p:nvPr/>
            </p:nvSpPr>
            <p:spPr>
              <a:xfrm>
                <a:off x="7390080" y="6571800"/>
                <a:ext cx="10116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Freeform 28"/>
              <p:cNvSpPr/>
              <p:nvPr/>
            </p:nvSpPr>
            <p:spPr>
              <a:xfrm>
                <a:off x="7489080" y="6571800"/>
                <a:ext cx="5688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Freeform 29"/>
              <p:cNvSpPr/>
              <p:nvPr/>
            </p:nvSpPr>
            <p:spPr>
              <a:xfrm>
                <a:off x="7553520" y="6571800"/>
                <a:ext cx="4932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Freeform 30"/>
              <p:cNvSpPr/>
              <p:nvPr/>
            </p:nvSpPr>
            <p:spPr>
              <a:xfrm>
                <a:off x="7600680" y="6571800"/>
                <a:ext cx="5940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Freeform 31"/>
              <p:cNvSpPr/>
              <p:nvPr/>
            </p:nvSpPr>
            <p:spPr>
              <a:xfrm>
                <a:off x="7699680" y="6549480"/>
                <a:ext cx="66600" cy="828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Freeform 32"/>
              <p:cNvSpPr/>
              <p:nvPr/>
            </p:nvSpPr>
            <p:spPr>
              <a:xfrm>
                <a:off x="7763760" y="6571800"/>
                <a:ext cx="6408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Freeform 33"/>
              <p:cNvSpPr/>
              <p:nvPr/>
            </p:nvSpPr>
            <p:spPr>
              <a:xfrm>
                <a:off x="7835400" y="6571800"/>
                <a:ext cx="69120" cy="8496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Freeform 34"/>
              <p:cNvSpPr/>
              <p:nvPr/>
            </p:nvSpPr>
            <p:spPr>
              <a:xfrm>
                <a:off x="7907400" y="6546960"/>
                <a:ext cx="34200" cy="8532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35"/>
              <p:cNvSpPr/>
              <p:nvPr/>
            </p:nvSpPr>
            <p:spPr>
              <a:xfrm>
                <a:off x="7941960" y="6571800"/>
                <a:ext cx="6408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36"/>
              <p:cNvSpPr/>
              <p:nvPr/>
            </p:nvSpPr>
            <p:spPr>
              <a:xfrm>
                <a:off x="8013600" y="6571800"/>
                <a:ext cx="5904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Freeform 37"/>
              <p:cNvSpPr/>
              <p:nvPr/>
            </p:nvSpPr>
            <p:spPr>
              <a:xfrm>
                <a:off x="8080200" y="6571800"/>
                <a:ext cx="5940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Freeform 38"/>
              <p:cNvSpPr/>
              <p:nvPr/>
            </p:nvSpPr>
            <p:spPr>
              <a:xfrm>
                <a:off x="8144640" y="6571800"/>
                <a:ext cx="4932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Freeform 39"/>
              <p:cNvSpPr/>
              <p:nvPr/>
            </p:nvSpPr>
            <p:spPr>
              <a:xfrm>
                <a:off x="8191800" y="6571800"/>
                <a:ext cx="5904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Freeform 40"/>
              <p:cNvSpPr/>
              <p:nvPr/>
            </p:nvSpPr>
            <p:spPr>
              <a:xfrm>
                <a:off x="8258400" y="6544800"/>
                <a:ext cx="71640" cy="8748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Freeform 41"/>
              <p:cNvSpPr/>
              <p:nvPr/>
            </p:nvSpPr>
            <p:spPr>
              <a:xfrm>
                <a:off x="8364600" y="6542280"/>
                <a:ext cx="49320" cy="900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Freeform 42"/>
              <p:cNvSpPr/>
              <p:nvPr/>
            </p:nvSpPr>
            <p:spPr>
              <a:xfrm>
                <a:off x="8409240" y="6571800"/>
                <a:ext cx="6156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Freeform 43"/>
              <p:cNvSpPr/>
              <p:nvPr/>
            </p:nvSpPr>
            <p:spPr>
              <a:xfrm>
                <a:off x="8478360" y="6571800"/>
                <a:ext cx="4932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Freeform 44"/>
              <p:cNvSpPr/>
              <p:nvPr/>
            </p:nvSpPr>
            <p:spPr>
              <a:xfrm>
                <a:off x="8562600" y="6549480"/>
                <a:ext cx="76320" cy="8280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Freeform 45"/>
              <p:cNvSpPr/>
              <p:nvPr/>
            </p:nvSpPr>
            <p:spPr>
              <a:xfrm>
                <a:off x="8641800" y="6571800"/>
                <a:ext cx="4932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Freeform 46"/>
              <p:cNvSpPr/>
              <p:nvPr/>
            </p:nvSpPr>
            <p:spPr>
              <a:xfrm>
                <a:off x="8688600" y="6571800"/>
                <a:ext cx="6444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Freeform 47"/>
              <p:cNvSpPr/>
              <p:nvPr/>
            </p:nvSpPr>
            <p:spPr>
              <a:xfrm>
                <a:off x="8765280" y="6571800"/>
                <a:ext cx="101160" cy="60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Freeform 48"/>
              <p:cNvSpPr/>
              <p:nvPr/>
            </p:nvSpPr>
            <p:spPr>
              <a:xfrm>
                <a:off x="8866440" y="6554520"/>
                <a:ext cx="44280" cy="7776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Freeform 49"/>
              <p:cNvSpPr/>
              <p:nvPr/>
            </p:nvSpPr>
            <p:spPr>
              <a:xfrm>
                <a:off x="8908560" y="6544800"/>
                <a:ext cx="64440" cy="8748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Freeform 50"/>
              <p:cNvSpPr/>
              <p:nvPr/>
            </p:nvSpPr>
            <p:spPr>
              <a:xfrm>
                <a:off x="8983080" y="6549480"/>
                <a:ext cx="49320" cy="2196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" name="Text Box 58"/>
          <p:cNvSpPr/>
          <p:nvPr/>
        </p:nvSpPr>
        <p:spPr>
          <a:xfrm>
            <a:off x="1258920" y="1700280"/>
            <a:ext cx="655308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penfind 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天使帝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ogramming Gu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User.dll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75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493-2FCC-4335-83A3-E856FFA37A80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468360" y="2205000"/>
            <a:ext cx="82296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主程式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scoring.exe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將呼叫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User.dll (dynam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User project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中包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標楷體"/>
              </a:rPr>
              <a:t>User.dsw(VC++ compil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標楷體"/>
              </a:rPr>
              <a:t>User.cpp -&gt;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  <a:ea typeface="標楷體"/>
              </a:rPr>
              <a:t>主要回傳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標楷體"/>
              </a:rPr>
              <a:t>functions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  <a:ea typeface="標楷體"/>
              </a:rPr>
              <a:t>都在此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標楷體"/>
              </a:rPr>
              <a:t>check.h -&gt;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  <a:ea typeface="標楷體"/>
              </a:rPr>
              <a:t>資料結構以及輔助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標楷體"/>
              </a:rPr>
              <a:t>functions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  <a:ea typeface="標楷體"/>
              </a:rPr>
              <a:t>都在此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Callback function (1/2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78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C222-3901-40EE-818E-C18466E5BCD9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468360" y="2205000"/>
            <a:ext cx="82296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void buildArmy(int team[10]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Main system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每場戰役開始前會呼叫此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Users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把自己的起始部隊配置放在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team[10]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位置如下圖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圖片 4" descr="team_10.jpg"/>
          <p:cNvPicPr/>
          <p:nvPr/>
        </p:nvPicPr>
        <p:blipFill>
          <a:blip r:embed="rId1"/>
          <a:stretch/>
        </p:blipFill>
        <p:spPr>
          <a:xfrm>
            <a:off x="2643120" y="4214880"/>
            <a:ext cx="378612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Callback function (2/2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82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8174-212B-4A48-B968-D6331CBF68FD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468360" y="2205000"/>
            <a:ext cx="82296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int playerMove(POINT pt[3]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Main system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每回合不斷呼叫，直到使用者行動完畢回合結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Pt[0]: src, pt[1]: dest, pt[2]: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CMD_MOVE: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從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pt[0]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走到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pt[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CMD_MOVE_AND_HEAL: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從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pt[0]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走到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pt[1]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並治療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pt[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CMD_MOVE_AND_ATTACK: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從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pt[0]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走到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pt[1]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並攻擊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pt[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CMD_END_TURN: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主動宣告回合結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7f17"/>
                </a:solidFill>
                <a:latin typeface="Verdana"/>
              </a:rPr>
              <a:t>Data structure </a:t>
            </a:r>
            <a:br>
              <a:rPr sz="3600"/>
            </a:br>
            <a:r>
              <a:rPr b="1" lang="en-US" sz="3600" spc="-1" strike="noStrike">
                <a:solidFill>
                  <a:srgbClr val="467f17"/>
                </a:solidFill>
                <a:latin typeface="Verdana"/>
              </a:rPr>
              <a:t>(#define and global)</a:t>
            </a:r>
            <a:endParaRPr b="1" lang="en-US" sz="36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85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260E-0F47-4585-A882-4DD0E09EECA9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500040" y="1785960"/>
            <a:ext cx="82296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WALL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SPAC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BA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GIANTBA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WARRIOR1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ROGU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MAGICIAN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PRIES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GOLEM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WARRIOR2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RICHARD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ANDRIC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PHANTOM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#define IVAN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g_nTurn : The current tur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Data structure (g_map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88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4C14-26F3-47FB-9244-9B890CCB1B9A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468360" y="2205000"/>
            <a:ext cx="82296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struct M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armyType; // count be 0 ~ 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armySide; // 1 is Player, 2 is CP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live; // 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這支部隊剩下多少生命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alreadyMoved; // 0 is false, 1 is tr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id; // An unique id for each army (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繪圖使用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}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g_map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[MAP_X_SIZE][MAP_Y_SIZE]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地圖大小：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MAP_X_SIZE * MAP_Y_SIZ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Global variable g_map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：整張地圖上每個點的資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Data structure (g_army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91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B1DD-EB1B-4789-8B0E-8158D8B3AF38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500040" y="164304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str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live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生命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attack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攻擊力、法術攻擊量、治療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defence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防禦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attackRange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攻擊範圍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moveRange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移動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isFly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是否為飛行單位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(0) or (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isFightBack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是否可近戰反擊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(0) or (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isSpell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是否為法術攻擊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(0) or (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isHeal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是否施放治療法術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(0) or (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t price;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部隊價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}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g_army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[TOTAL_ICON]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可用範圍：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g_army[2]~g_army[13] 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僅當作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check functions 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的參考，自行修改是沒用的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比賽規則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64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357-DE59-489A-8ED5-64D792D5D2C0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68360" y="2205000"/>
            <a:ext cx="82296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由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Player(Blue)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的部隊跟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CPU(Red)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控制的部隊互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地圖大小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10x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每場戰役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Player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經費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2000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元可自行購買兵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採回合制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每場最多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50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回合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)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，由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Player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先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每場戰役結束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一方全滅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or 50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回合到達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)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計算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</a:rPr>
              <a:t>Player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得分並且排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單場戰役最高分者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分、第二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分、第三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</a:rPr>
              <a:t>共十場戰役，總成績最高者獲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Utils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94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FDC3-9981-4C5D-94DD-4CA82D84109F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468360" y="2205000"/>
            <a:ext cx="82296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自我檢查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PLAYER build army </a:t>
            </a:r>
            <a:r>
              <a:rPr b="1" lang="zh-TW" sz="1600" spc="-1" strike="noStrike">
                <a:solidFill>
                  <a:srgbClr val="333333"/>
                </a:solidFill>
                <a:latin typeface="Verdana"/>
              </a:rPr>
              <a:t>是否合法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 Function: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nt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checkBuildArmy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nt player[10]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600" spc="-1" strike="noStrike">
                <a:solidFill>
                  <a:srgbClr val="0070c0"/>
                </a:solidFill>
                <a:latin typeface="Verdan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 int player[10]: player[0]~player[4] is the rear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                            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player[5]~player[9] is the fro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600" spc="-1" strike="noStrike">
                <a:solidFill>
                  <a:srgbClr val="0070c0"/>
                </a:solidFill>
                <a:latin typeface="Verdana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SUCCESS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: The content of player[10] is 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RR_INVALID_TYPE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: At least one of the position contain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                                      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invalid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RR_EXCEED_COST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: The total cost of player[10] exceeds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                                     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maximum value (MAX_COST=200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Utils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5BE6-82E4-4725-97C3-1CA1128EE31A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68360" y="2205000"/>
            <a:ext cx="853272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取得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src 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可以移動到那些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dest[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Function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int getMov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dest[50]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70c0"/>
                </a:solidFill>
                <a:latin typeface="Verdan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original point of the army you want to mo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dest[50]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All the result of available move points will be stored in this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should be PLAYER(1) or CPU(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70c0"/>
                </a:solidFill>
                <a:latin typeface="Verdan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0 ~ positive valu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count of total available mov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INPU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input userType is not PLAYER(1) or CPU(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NOT_PLAYER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army in the src does not belong to y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ALREADY_MOV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army in the src has performed an move alread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Utils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00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12CB-FC60-4166-BA00-832A877EFB3E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468360" y="2205000"/>
            <a:ext cx="853272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取得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src 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可以法術攻擊那些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dest[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Function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int getSpellAttack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dest[50]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original point of the army that you want to cast an offence spe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dest[50]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All the result of available targets will be stored in this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should be PLAYER(1) or CPU(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0 ~ positive value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count of total available points of targe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INPU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input userType is not PLAYER(1) or CPU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NOT_PLAYER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army in the src does not belong to yo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ALREADY_MOVE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army in the src has performed move and attack alrea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CANNOT_CAS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army in the src does have the ability to case an offence sp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Utils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03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D567-F27B-46DD-97DA-F566C19A3E4F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468360" y="2000160"/>
            <a:ext cx="85327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自我檢查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src =&gt;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dest 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是否正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Function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int checkMov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des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To check move from src to dest is legal or not, but will not perform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original point that you want to move your ar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des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destination point that you want to move your ar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Should be PLAYER(1) or CPU(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UCCESS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Your move is vali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INPU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input userType is not PLAYER(1) or CPU(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NOT_PLAYER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src does not belong to y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ALREADY_MOV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src has performed move alread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ILLEGAL_DES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dest is not empty or out of r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Utils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06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B6E-7255-4C25-B301-FDA427DADEC1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468360" y="2000160"/>
            <a:ext cx="85327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自我檢查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src =&gt;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dest 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是否正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Function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int checkMov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des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To check move from src to dest is legal or not, but will not perform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original point that you want to move your ar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des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destination point that you want to move your ar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Should be PLAYER(1) or CPU(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SUCCESS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Your move is vali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INPU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input userType is not PLAYER(1) or CPU(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NOT_PLAYER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src does not belong to y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ALREADY_MOV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src has performed move alread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RR_ILLEGAL_DEST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: The dest is not empty or out of r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Utils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09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74A3-F124-4451-94C8-CAFD71349E51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468360" y="2000160"/>
            <a:ext cx="85327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自我檢查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src =&gt;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dest 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然後治療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target 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是否正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Function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in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heckMoveAndHeal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des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targe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To check move then heal. If you don't want to move, you can just input src==dest si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once performing heal, the army cannot be moved anymo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00b0f0"/>
                </a:solidFill>
                <a:latin typeface="Verdana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original point of your ar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des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destination point of your ar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targe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target point that you want to he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Should be PLAYER(1) or CPU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00b0f0"/>
                </a:solidFill>
                <a:latin typeface="Verdan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SUCCESS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Your move and heal is val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INPU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input userType is not PLAYER(1) or CPU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NOT_PLAYER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src does not belong to you, or cannot perform he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ALREADY_MOVE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src has performed move alrea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ILLEGAL_DES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dest is not empty or out of r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ILLEGAL_TARGE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target cannot be healed (not belong to you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Utils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12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46DD-75D8-4C1A-8EDB-448BED2C16D7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468360" y="2000160"/>
            <a:ext cx="85327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自我檢查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src =&gt;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dest 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然後攻擊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target </a:t>
            </a:r>
            <a:r>
              <a:rPr b="1" lang="zh-TW" sz="1400" spc="-1" strike="noStrike">
                <a:solidFill>
                  <a:srgbClr val="333333"/>
                </a:solidFill>
                <a:latin typeface="Verdana"/>
              </a:rPr>
              <a:t>是否正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Function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in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heckMoveAndAttack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des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targe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,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To preform move then attack. If you don't want to move, you can just input src==des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since once performing attacking, the army cannot be moved anymo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00b0f0"/>
                </a:solidFill>
                <a:latin typeface="Verdana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src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original point of your ar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des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destination point of your ar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targe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target point that you want to attac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userType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Should be PLAYER(1) or CPU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00b0f0"/>
                </a:solidFill>
                <a:latin typeface="Verdan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SUCCESS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Your move and attack is val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INPU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input userType is not PLAYER(1) or CPU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NOT_PLAYER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src does not belong to you, or cannot perform attac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ALREADY_MOVE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src has performed move alrea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ILLEGAL_DES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dest is not empty or out of r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//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ERR_ILLEGAL_TARGET</a:t>
            </a:r>
            <a:r>
              <a:rPr b="1" lang="en-US" sz="1200" spc="-1" strike="noStrike">
                <a:solidFill>
                  <a:srgbClr val="333333"/>
                </a:solidFill>
                <a:latin typeface="Verdana"/>
              </a:rPr>
              <a:t>: The target cannot be attacked (not enemy or not reach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每回合輪到 </a:t>
            </a: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Player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67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3144-8AEA-4A0B-8740-56FBC0E57F69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68360" y="2205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每支部隊只能行動一次，行動完畢必須要等下回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CMD_MOVE: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移動，之後此部隊本回合行動結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CMD_MOVE_AND_HEAL: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移動後施放治療術，之後此部隊本回合行動結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CMD_MOVE_AND_ATTACK: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移動後施展攻擊，之後此部隊本回合行動結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CMD_END_TURN: Player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主動宣告此回合結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移動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src =&gt; dest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，其中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src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可以等於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dest (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代表站在原地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每支部隊都行動過後，本回合自動結束換 </a:t>
            </a: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CPU </a:t>
            </a:r>
            <a:r>
              <a:rPr b="1" lang="zh-TW" sz="2000" spc="-1" strike="noStrike">
                <a:solidFill>
                  <a:srgbClr val="333333"/>
                </a:solidFill>
                <a:latin typeface="Verdana"/>
              </a:rPr>
              <a:t>部隊行動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移動規則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70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F402-901E-4617-93D2-ED8A05AD6D7A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68360" y="2205000"/>
            <a:ext cx="5603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每步只能走上下左右四個方向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不能走斜線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步行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 – 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移動距離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(2)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當作例子，可以走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0 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步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停在原地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)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1 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步、或是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2 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步。只是每一步都必須有空地可以停留。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(</a:t>
            </a:r>
            <a:r>
              <a:rPr b="1" lang="zh-TW" sz="2800" spc="-1" strike="noStrike">
                <a:solidFill>
                  <a:srgbClr val="c00000"/>
                </a:solidFill>
                <a:latin typeface="Verdana"/>
              </a:rPr>
              <a:t>如右圖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飛行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 – 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移動距離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(3)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當作例子，可以走到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3 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步以內的任何空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圖片 4" descr="moveDemo.jpg"/>
          <p:cNvPicPr/>
          <p:nvPr/>
        </p:nvPicPr>
        <p:blipFill>
          <a:blip r:embed="rId1"/>
          <a:stretch/>
        </p:blipFill>
        <p:spPr>
          <a:xfrm>
            <a:off x="6215040" y="2714760"/>
            <a:ext cx="2384280" cy="30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治療規則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74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6EEE-2EF7-4433-BBBA-39C6892A769F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68360" y="2205000"/>
            <a:ext cx="8104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牧師可以治療，能治療自己或相鄰友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每回合可施展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移動後治療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一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每次治療可回復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200 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點生命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治療後不會超過原本生命的上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近戰攻擊規則 </a:t>
            </a: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(A </a:t>
            </a: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攻擊 </a:t>
            </a: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B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77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7D74-92DE-4106-B674-096DD2EEDA40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68360" y="2205000"/>
            <a:ext cx="8104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B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必須為敵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每回合可施展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移動後攻擊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一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殺傷力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= MAX((A.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攻擊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.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防禦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,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最低攻擊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(1)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殺傷力判斷為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A.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攻擊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-B.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防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(2)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最低攻擊為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20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，每次攻擊至少可打掉敵方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20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點生命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(3)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攻擊後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B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生命值若小於等於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0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則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B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部隊陣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(4)B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如存活且具備近戰反擊能力，將自動反擊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標楷體"/>
              </a:rPr>
              <a:t>A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一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遠程法術攻擊規則 </a:t>
            </a: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(A </a:t>
            </a: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攻擊 </a:t>
            </a: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B)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80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828F-0658-475D-A8F0-7FB01FE67A9C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68360" y="2205000"/>
            <a:ext cx="8104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B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必須為敵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每回合可施展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移動後攻擊</a:t>
            </a:r>
            <a:r>
              <a:rPr b="1" lang="zh-TW" sz="2800" spc="-1" strike="noStrike">
                <a:solidFill>
                  <a:srgbClr val="333333"/>
                </a:solidFill>
                <a:latin typeface="Verdana"/>
              </a:rPr>
              <a:t>一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殺傷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= A.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攻擊力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無視對方防禦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若施法攻擊鄰近單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未陣亡且具備反擊能力，將自動反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分數計算 </a:t>
            </a: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&amp; </a:t>
            </a: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戰役結束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83" name="投影片編號版面配置區 2"/>
          <p:cNvSpPr/>
          <p:nvPr/>
        </p:nvSpPr>
        <p:spPr>
          <a:xfrm>
            <a:off x="179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7428-CB86-4443-81A9-1D2A634A5F04}" type="slidenum"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85840" y="2205000"/>
            <a:ext cx="86439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戰役結束條件為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1)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一方全滅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2)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超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50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回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戰役中擊殺敵軍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可以得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價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2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的分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戰役結束後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YER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方殘存的部隊將加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部隊價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x0.5 + (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剩餘生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生命最大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)x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價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*0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單場戰役總分為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</a:rPr>
              <a:t>擊殺敵軍分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</a:rPr>
              <a:t>己方部隊殘存分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3:14:59Z</dcterms:created>
  <dc:creator>Openfind</dc:creator>
  <dc:description/>
  <dc:language>en-US</dc:language>
  <cp:lastModifiedBy>phantom_weng</cp:lastModifiedBy>
  <dcterms:modified xsi:type="dcterms:W3CDTF">2009-08-28T04:25:30Z</dcterms:modified>
  <cp:revision>429</cp:revision>
  <dc:subject/>
  <dc:title>Openfind 程式設計比賽</dc:title>
</cp:coreProperties>
</file>